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686E-0785-4141-BA6E-8C51622F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8298-46C5-4DC9-9320-356A055B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D53C-6279-4267-84AF-A9495E75C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9123-3D6B-4777-997C-EC7D7D2CB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7B41-DE30-48E5-9B0E-20F8789B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73AA-7231-4DEC-B1E2-C51F483F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34DD-1079-4029-A0C1-8034F833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3C26-F361-4D03-91FD-BE5C703E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D230-1E7F-4CC1-A5A3-FD2396CA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CF01-968C-4EE6-99B8-A4FB0DD3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63BD-D632-42DD-B1D9-9D5BEE43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45E0-2360-420F-9FEC-94021D99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avid Butcher and Associ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CEE1-B13E-4D65-9ECF-100129423E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260280"/>
            <a:ext cx="820728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8360" y="6669000"/>
            <a:ext cx="820728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vernment Role in Fostering Electricity Sector Reforms and Private Sector Participation</a:t>
            </a:r>
            <a:br>
              <a:rPr sz="36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n David Butc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55640" y="3933360"/>
            <a:ext cx="7632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tribution to: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structuring and Regulating the Electricity Sector for Private Sector Participation”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isk Minimisation Strateg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66"/>
                </a:solidFill>
                <a:latin typeface="Arial"/>
              </a:rPr>
              <a:t>Governments are bad at managing power risks:</a:t>
            </a:r>
            <a:r>
              <a:rPr b="0" lang="en-ZA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brown outs in the Philippines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FSU: power cuts after under-investment and maintenance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Africa: many investments benefit foreign companies, because power is sold too cheap to big users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New Zealand: hydro-power had enormous cost overrun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66"/>
                </a:solidFill>
                <a:latin typeface="Arial"/>
              </a:rPr>
              <a:t>Private investment: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helps to manage and diversify risks, because investors must service all their debts, including capital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must manage investment to meets market demand, not exceed it, an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must aim for their investments break even point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incipl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66"/>
                </a:solidFill>
                <a:latin typeface="Arial"/>
              </a:rPr>
              <a:t>The principles underlying investment decisions are, that investment must:</a:t>
            </a:r>
            <a:r>
              <a:rPr b="0" lang="en-ZA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be technically sound (i.e. achieve technical, or productive efficiency),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must be in facilities that will produce the best economic return (allocative efficiency), and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there must not be too much or too little investment at any given time (dynamic efficiency)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66"/>
                </a:solidFill>
                <a:latin typeface="Arial"/>
              </a:rPr>
              <a:t>Incentives for the Private Sector to meet these principles are better than for government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can Sector Reforms Help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360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raditionally, electricity institutions were vertically integrated, ministries - competition was often made illegal,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002200" y="1262160"/>
            <a:ext cx="3457440" cy="4471920"/>
            <a:chOff x="5002200" y="1262160"/>
            <a:chExt cx="3457440" cy="4471920"/>
          </a:xfrm>
        </p:grpSpPr>
        <p:sp>
          <p:nvSpPr>
            <p:cNvPr id="68" name=""/>
            <p:cNvSpPr/>
            <p:nvPr/>
          </p:nvSpPr>
          <p:spPr>
            <a:xfrm>
              <a:off x="5002200" y="1700280"/>
              <a:ext cx="3457440" cy="10080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002200" y="4726080"/>
              <a:ext cx="3457440" cy="10080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02200" y="3718080"/>
              <a:ext cx="3457440" cy="10080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002200" y="2708280"/>
              <a:ext cx="3457440" cy="10080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75280" y="1917720"/>
              <a:ext cx="331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licy, Regulation,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wnership and Manag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75280" y="2997360"/>
              <a:ext cx="33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075280" y="3933720"/>
              <a:ext cx="331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mission and Distribu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75280" y="5078520"/>
              <a:ext cx="33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ergy Reta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003640" y="1262160"/>
              <a:ext cx="34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ertically Integrated Ut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tionale for Vertical Integ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Policy aimed at protecting a revenue base, to be used to extend power to communities without service and pay for new generation, BU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vertical integration also meant a lack of competition and led to a loss of focus on customers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ash flows from utilities make them prime targets for political intervention (e.g. overstaffing) and rent seeking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REFORMS mean restructuring the incentive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Meant by Restructuring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en restructuring to facilitate private sector involvement, three processes are at work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Sectoral Restructuring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- to clarify roles of institutions responsible for policy, ownership, business management and regulation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Vertical unbundling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– to focus on the efficiency of generation, transmission, distribution and retail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Deregulation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– to allow private sector participation in the most competitive aspects of the power sector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3520" y="1168560"/>
            <a:ext cx="579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32480" y="279360"/>
            <a:ext cx="565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ctoral Restructu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09480" y="1625760"/>
            <a:ext cx="7925040" cy="4539960"/>
            <a:chOff x="609480" y="1625760"/>
            <a:chExt cx="7925040" cy="4539960"/>
          </a:xfrm>
        </p:grpSpPr>
        <p:sp>
          <p:nvSpPr>
            <p:cNvPr id="84" name=""/>
            <p:cNvSpPr/>
            <p:nvPr/>
          </p:nvSpPr>
          <p:spPr>
            <a:xfrm>
              <a:off x="3851280" y="3139920"/>
              <a:ext cx="3457440" cy="100836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00600" y="1930320"/>
              <a:ext cx="1523880" cy="8384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819520" y="1930320"/>
              <a:ext cx="1523880" cy="8384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8080" y="1700280"/>
              <a:ext cx="1524240" cy="10684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5720" y="1930320"/>
              <a:ext cx="1523880" cy="8384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" y="214308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olic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81680" y="2158920"/>
              <a:ext cx="1447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648320" y="1930320"/>
              <a:ext cx="1904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ower Busin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19520" y="21589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eg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9480" y="1625760"/>
              <a:ext cx="79250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51280" y="5157720"/>
              <a:ext cx="3457440" cy="10080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51280" y="4149720"/>
              <a:ext cx="3457440" cy="10080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24360" y="3429000"/>
              <a:ext cx="33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24360" y="4365720"/>
              <a:ext cx="331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mission and Distribu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24360" y="5510160"/>
              <a:ext cx="33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ergy Reta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80000" y="2781360"/>
              <a:ext cx="0" cy="36036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6372000" y="2386080"/>
              <a:ext cx="36036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56000" y="2386080"/>
              <a:ext cx="36036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40000" y="2781360"/>
              <a:ext cx="0" cy="331164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11280" y="1628640"/>
              <a:ext cx="56167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tructuring Rationa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Multiple objectives, multiple excuses.”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hen, policy, ownership, business management and regulation are inside a single ministry, civil servants effectively make all the decisions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 single recommendation goes to ministers often without the implications of the trade-offs spelt out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istakes can be hidden e.g. relax environmental controls in order to improve business returns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Sectoral Restructuring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laces the different functions in the hands of separate agencie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asier to measure performance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ultiple streams of information -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TRANSPARENT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749160" y="692280"/>
            <a:ext cx="8001000" cy="1828800"/>
            <a:chOff x="749160" y="692280"/>
            <a:chExt cx="8001000" cy="1828800"/>
          </a:xfrm>
        </p:grpSpPr>
        <p:sp>
          <p:nvSpPr>
            <p:cNvPr id="107" name=""/>
            <p:cNvSpPr/>
            <p:nvPr/>
          </p:nvSpPr>
          <p:spPr>
            <a:xfrm>
              <a:off x="5016240" y="1454400"/>
              <a:ext cx="1523880" cy="8380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35160" y="1454400"/>
              <a:ext cx="1523880" cy="8380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53720" y="1454400"/>
              <a:ext cx="1524240" cy="8380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21360" y="1454400"/>
              <a:ext cx="1523880" cy="8380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9160" y="692280"/>
              <a:ext cx="579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30040" y="166716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olic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97320" y="1683000"/>
              <a:ext cx="1447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63960" y="1454400"/>
              <a:ext cx="1904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ower Busin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35160" y="168300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eg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5120" y="1149480"/>
              <a:ext cx="79250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749160" y="2597040"/>
            <a:ext cx="6248160" cy="3657600"/>
            <a:chOff x="749160" y="2597040"/>
            <a:chExt cx="6248160" cy="3657600"/>
          </a:xfrm>
        </p:grpSpPr>
        <p:sp>
          <p:nvSpPr>
            <p:cNvPr id="118" name=""/>
            <p:cNvSpPr/>
            <p:nvPr/>
          </p:nvSpPr>
          <p:spPr>
            <a:xfrm>
              <a:off x="5016240" y="2825640"/>
              <a:ext cx="1523880" cy="838080"/>
            </a:xfrm>
            <a:prstGeom prst="rect">
              <a:avLst/>
            </a:prstGeom>
            <a:solidFill>
              <a:srgbClr val="66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92560" y="3054240"/>
              <a:ext cx="1447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16240" y="5263920"/>
              <a:ext cx="1523880" cy="838440"/>
            </a:xfrm>
            <a:prstGeom prst="rect">
              <a:avLst/>
            </a:prstGeom>
            <a:solidFill>
              <a:srgbClr val="66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87640" y="5492520"/>
              <a:ext cx="19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44840" y="4044960"/>
              <a:ext cx="990720" cy="8380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939920" y="4273560"/>
              <a:ext cx="1676520" cy="59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Transmission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istribu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9160" y="2597040"/>
              <a:ext cx="579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nbundling Separate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87640" y="2597040"/>
              <a:ext cx="2209680" cy="36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349360" y="3089160"/>
            <a:ext cx="2210040" cy="838080"/>
            <a:chOff x="2349360" y="3089160"/>
            <a:chExt cx="2210040" cy="838080"/>
          </a:xfrm>
        </p:grpSpPr>
        <p:sp>
          <p:nvSpPr>
            <p:cNvPr id="127" name=""/>
            <p:cNvSpPr/>
            <p:nvPr/>
          </p:nvSpPr>
          <p:spPr>
            <a:xfrm>
              <a:off x="2349360" y="3089160"/>
              <a:ext cx="2210040" cy="838080"/>
            </a:xfrm>
            <a:prstGeom prst="rightArrow">
              <a:avLst>
                <a:gd name="adj1" fmla="val 50000"/>
                <a:gd name="adj2" fmla="val 65926"/>
              </a:avLst>
            </a:prstGeom>
            <a:solidFill>
              <a:srgbClr val="66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25680" y="3317760"/>
              <a:ext cx="1828800" cy="33732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ompetiti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49360" y="5340240"/>
            <a:ext cx="2210040" cy="838080"/>
            <a:chOff x="2349360" y="5340240"/>
            <a:chExt cx="2210040" cy="838080"/>
          </a:xfrm>
        </p:grpSpPr>
        <p:sp>
          <p:nvSpPr>
            <p:cNvPr id="130" name=""/>
            <p:cNvSpPr/>
            <p:nvPr/>
          </p:nvSpPr>
          <p:spPr>
            <a:xfrm>
              <a:off x="2349360" y="5340240"/>
              <a:ext cx="2210040" cy="838080"/>
            </a:xfrm>
            <a:prstGeom prst="rightArrow">
              <a:avLst>
                <a:gd name="adj1" fmla="val 50000"/>
                <a:gd name="adj2" fmla="val 65926"/>
              </a:avLst>
            </a:prstGeom>
            <a:solidFill>
              <a:srgbClr val="66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25680" y="5568840"/>
              <a:ext cx="1828800" cy="33732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ompetiti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349360" y="4232160"/>
            <a:ext cx="2210040" cy="838080"/>
            <a:chOff x="2349360" y="4232160"/>
            <a:chExt cx="2210040" cy="838080"/>
          </a:xfrm>
        </p:grpSpPr>
        <p:sp>
          <p:nvSpPr>
            <p:cNvPr id="133" name=""/>
            <p:cNvSpPr/>
            <p:nvPr/>
          </p:nvSpPr>
          <p:spPr>
            <a:xfrm>
              <a:off x="2349360" y="4232160"/>
              <a:ext cx="2210040" cy="838080"/>
            </a:xfrm>
            <a:prstGeom prst="rightArrow">
              <a:avLst>
                <a:gd name="adj1" fmla="val 50000"/>
                <a:gd name="adj2" fmla="val 65926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25680" y="4460760"/>
              <a:ext cx="1828800" cy="337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onopo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044440" y="404640"/>
            <a:ext cx="49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rtical Unbund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bundling for Performa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Vertical unbundling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kes performance of generation, lines and energy sales transparent too - (“chopping into competitive and less competitive bits to see what is going on”)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Unbundling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courages EFFICIENCY in each segment, putting ongoing downward pressure on costs (“squeeze the bits to make them more efficient and keep real costs down”)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ustomers benefit as the sector works harder (“the [rugby] goal is raised, the sector learns to kick better”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parated transmission, allows open access / price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cessary Condi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estructuring and Unbundling are necessary conditions for UNSUBSIDISED private investment, (note that private investors will invest in anything if the subsidy is big enough),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Other necessary conditions are: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rule of law,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reedom to change money, and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uarantees there will be no seizure of private assets by government officials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emoving foreign investment impediments is also very important – “make it easy”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y Backgrou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rained economis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rmer Workers’ Union Offici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ember of New Zealand Parliament for 12 years (1978-1990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nister of Energy (1987-90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hairman of the Cabinet Committee on Restructuring Electricit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nsultant 1990 - 2003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regulation / Liberalis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Liberalisation: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removal of unnecessary legal barriers to investment (e.g. legal enforced vertical integration)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Deregulation: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s to narrow the scope of regulatory intervention to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general issues such as health, safety, and environment, and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ector specific issues such as access to resource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ectoral issues such as price control on transmission and distribu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ssible Sequence of Liberalis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ector Restructuring, to clarify the focus on policy, regulation, ownership and management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move legal protection for all ancillary activities (eg cleaning, transport, maintenance),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Vertical unbundling, in particular the removal of transmission from the former utility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mmercially driven break up of generation,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stablishment of wholesale market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mmercial grouping of retail into viable units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stablish cost effective retail market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on Fallacies about Restructu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ZA" sz="3200" spc="-1" strike="noStrike">
                <a:solidFill>
                  <a:srgbClr val="000066"/>
                </a:solidFill>
                <a:latin typeface="Arial"/>
              </a:rPr>
              <a:t>Prices will double”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prices in NZ power -11%, coal -40%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ZA" sz="3200" spc="-1" strike="noStrike">
                <a:solidFill>
                  <a:srgbClr val="000066"/>
                </a:solidFill>
                <a:latin typeface="Arial"/>
              </a:rPr>
              <a:t>If it ain’t broke, don’t fix it”,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is good cash flow good performance, or a monopoly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ZA" sz="3200" spc="-1" strike="noStrike">
                <a:solidFill>
                  <a:srgbClr val="000066"/>
                </a:solidFill>
                <a:latin typeface="Arial"/>
              </a:rPr>
              <a:t>This sector is different to the others”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issues are the same: improving incentives, transparenc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ZA" sz="3200" spc="-1" strike="noStrike">
                <a:solidFill>
                  <a:srgbClr val="000066"/>
                </a:solidFill>
                <a:latin typeface="Arial"/>
              </a:rPr>
              <a:t>Costs are high and the benefits far away,”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if the pain is postponed so are the benefi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66"/>
                </a:solidFill>
                <a:latin typeface="Arial"/>
              </a:rPr>
              <a:t>“ </a:t>
            </a:r>
            <a:r>
              <a:rPr b="0" lang="en-ZA" sz="3200" spc="-1" strike="noStrike">
                <a:solidFill>
                  <a:srgbClr val="000066"/>
                </a:solidFill>
                <a:latin typeface="Arial"/>
              </a:rPr>
              <a:t>This sector is strategic!”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food is strategic in N Korea – distributing donor ri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ivate Invest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66"/>
                </a:solidFill>
                <a:latin typeface="Arial"/>
              </a:rPr>
              <a:t>Why is private investment good?</a:t>
            </a: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66"/>
                </a:solidFill>
                <a:latin typeface="Arial"/>
              </a:rPr>
              <a:t>stops the government using money that should be used for schools and hospitals, to build edifices,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66"/>
                </a:solidFill>
                <a:latin typeface="Arial"/>
              </a:rPr>
              <a:t>If government subsidises power, it biases investment into power intensive, job lean sectors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66"/>
                </a:solidFill>
                <a:latin typeface="Arial"/>
              </a:rPr>
              <a:t>it opens the market to more environmentally friendly options for generation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66"/>
                </a:solidFill>
                <a:latin typeface="Arial"/>
              </a:rPr>
              <a:t>if private investors do a bad job, they go bankrupt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66"/>
                </a:solidFill>
                <a:latin typeface="Arial"/>
              </a:rPr>
              <a:t>other owners can buy and operate the assets, and it will not cost the government or community anything, the investors and the bankers bear the cost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Government’s key role is to determine the road map, answer the questions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Government does best when it states where it wants to end up and asks the sector and investors for advice on how to get there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re is always the threat of compulsion, but if getting investment is the goal, use it sparingly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frica is in a competitive market for capital,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 attract the money it needs, Africa has to be an attractive place to invest – make it easy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le Of Govern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560" y="1486080"/>
            <a:ext cx="8893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Arial"/>
              </a:rPr>
              <a:t>Overall objective of government policy should be to maximise economic activity, create employment and reduce pover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Arial"/>
              </a:rPr>
              <a:t>Its energy role is to determine sector policy.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Arial"/>
              </a:rPr>
              <a:t>GRIME* Report, identified key policy issue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Arial"/>
              </a:rPr>
              <a:t>the institutional framework within which energy markets will operate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Arial"/>
              </a:rPr>
              <a:t>identifying and correcting for perceived market failures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Arial"/>
              </a:rPr>
              <a:t>providing for non-market objectives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Arial"/>
              </a:rPr>
              <a:t>managing resources that are owned by the nation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Arial"/>
              </a:rPr>
              <a:t>Sector policy must fit within overall government policy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1718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66"/>
                </a:solidFill>
                <a:latin typeface="Arial"/>
              </a:rPr>
              <a:t>*GRIME = Government Role in Minerals and Energ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stitutional Framewor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66"/>
                </a:solidFill>
                <a:latin typeface="Arial"/>
              </a:rPr>
              <a:t>Institutions in the energy markets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Arial"/>
              </a:rPr>
              <a:t>will the institutions of the sector be public or privately owned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Arial"/>
              </a:rPr>
              <a:t>will there be government agencies, departments or companie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Arial"/>
              </a:rPr>
              <a:t>will there be markets and competition or will there be a legislated monopoly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Arial"/>
              </a:rPr>
              <a:t>which organisations will be responsible for policy / regulation et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rket Failur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Arial"/>
              </a:rPr>
              <a:t>Objective ways to identify and correct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Arial"/>
              </a:rPr>
              <a:t>how will public goods such as health or safety inspection be provided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Arial"/>
              </a:rPr>
              <a:t>is there information sufficient for a competitive market to work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Arial"/>
              </a:rPr>
              <a:t>is it a natural monopoly industry that needs regulation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Arial"/>
              </a:rPr>
              <a:t>are entry costs too high to encourage new competitor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Arial"/>
              </a:rPr>
              <a:t>do external costs, like pollution, need to be charged to the industry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Arial"/>
              </a:rPr>
              <a:t>Government failure/cost needs to be weigh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n-Market Objec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66"/>
                </a:solidFill>
                <a:latin typeface="Arial"/>
              </a:rPr>
              <a:t>Cost effective provision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Arial"/>
              </a:rPr>
              <a:t>will the industry be required to contribute to regional development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Arial"/>
              </a:rPr>
              <a:t>will the industry be allowed / required to cross subsidise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Arial"/>
              </a:rPr>
              <a:t>will price controls on energy be an inflation control tool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Arial"/>
              </a:rPr>
              <a:t>will the above undermine the industry's capital base, or will the budget compensate for policy cost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Primary Energy Resour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Arial"/>
              </a:rPr>
              <a:t>Getting Value for nation’s resource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Arial"/>
              </a:rPr>
              <a:t>who will "own" resources such as rivers, geothermal deposits and lake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Arial"/>
              </a:rPr>
              <a:t>What priority should be accorded to the claims of indigenous groups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Arial"/>
              </a:rPr>
              <a:t>who will "own" mineral resources under the ground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Arial"/>
              </a:rPr>
              <a:t>how will resources be allocated to competing use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Arial"/>
              </a:rPr>
              <a:t>how will the best value use for resources be achieved (and what role with government or markets play in determining value)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wer Sector Polic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66"/>
                </a:solidFill>
                <a:latin typeface="Arial"/>
              </a:rPr>
              <a:t>Efficient investment in power is the goal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66"/>
                </a:solidFill>
                <a:latin typeface="Arial"/>
              </a:rPr>
              <a:t>Investment is large, lumpy and absorbs a large share of available capital – can’t use elsewhere once employed in power stations.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66"/>
                </a:solidFill>
                <a:latin typeface="Arial"/>
              </a:rPr>
              <a:t>Mistakes tend to be big mistakes.</a:t>
            </a:r>
            <a:r>
              <a:rPr b="0" lang="en-ZA" sz="2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technical mistakes create the risk of breakdowns and interruptions of service,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inadequate investment can create the risk of low voltage and supply restrictions, meaning lost production and exports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too much investment creates risk of large costs (passed on to consumers) - no revenue stream from the unused capacity to pay for construction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difice Compl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66"/>
                </a:solidFill>
                <a:latin typeface="Arial"/>
              </a:rPr>
              <a:t>Edifice danger: “all construction is good”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66"/>
                </a:solidFill>
                <a:latin typeface="Arial"/>
              </a:rPr>
              <a:t>but we cannot eat power, wear it, live in it or enjoy it, its an intermediate good.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66"/>
                </a:solidFill>
                <a:latin typeface="Arial"/>
              </a:rPr>
              <a:t>The benefit of electricity is maximised if the REAL COST is kept low (helps to create jobs, incomes and end poverty) ,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66"/>
                </a:solidFill>
                <a:latin typeface="Arial"/>
              </a:rPr>
              <a:t>Over investment, (driven by an edifice complex) may lead to sales, below cost, to big us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that may create a few expensive jobs (US$.5 million per job v. US$ 5k), but destroys more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66"/>
                </a:solidFill>
                <a:latin typeface="Arial"/>
              </a:rPr>
              <a:t>If bad decisions result in over or under investment the capacity of the country to create jobs and tackle poverty among its citizens is reduced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6:57:15Z</dcterms:created>
  <dc:creator>David Butcher</dc:creator>
  <dc:description/>
  <dc:language>en-US</dc:language>
  <cp:lastModifiedBy>David</cp:lastModifiedBy>
  <dcterms:modified xsi:type="dcterms:W3CDTF">2007-01-20T21:47:38Z</dcterms:modified>
  <cp:revision>13</cp:revision>
  <dc:subject/>
  <dc:title>Role of Government in Fostering Reforms and Private Sector Participation by  Hon David Butcher</dc:title>
</cp:coreProperties>
</file>