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8E0-F2F0-4C05-AC49-ADB9DB4E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012-B503-437D-B8F4-3EC169AC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B6A-D778-42F9-A355-78EC34AD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ED5-C44E-43AB-9DC5-A622C193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F53-8E84-4F60-8B27-45384A4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AC3-473F-415C-806F-7F1891FA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CA4-5095-46AA-A131-2B6D4825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2A7-8500-4A01-8B1F-25C14B3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AF4-ACEF-41EC-AC02-67B7AEEF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F17-188E-4AA0-9C31-439CD75B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C354-E9D6-4967-A134-69D0348E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E137-96A6-4397-AE15-0132042E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vid Butcher and Assoc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FDFE-FE95-436D-A0EF-3F9AC9FFAF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669000"/>
            <a:ext cx="8207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Role in Fostering Electricity Sector Reforms and Private Sector Participation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 David But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393336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ibution 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tructuring and Regulating the Electricity Sector for Private Sector Participation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sk Minimisation Strate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Governments are bad at managing power risks:</a:t>
            </a: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brown outs in the Philippin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FSU: power cuts after under-investment and maintenanc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Africa: many investments benefit foreign companies, because power is sold too cheap to big user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New Zealand: hydro-power had enormous cost overru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Private investment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helps to manage and diversify risks, because investors must service all their debts, including capital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manage investment to meets market demand, not exceed it, 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aim for their investments break even poi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66"/>
                </a:solidFill>
                <a:latin typeface="Arial"/>
              </a:rPr>
              <a:t>The principles underlying investment decisions are, that investment must: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be technically sound (i.e. achieve technical, or productive efficiency),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be in facilities that will produce the best economic return (allocative efficiency)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here must not be too much or too little investment at any given time (dynamic efficiency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ncentives for the Private Sector to meet these principles are better than for govern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an Sector Reforms Hel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60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raditionally, electricity institutions were vertically integrated, ministries - competition was often made illegal,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002200" y="1262160"/>
            <a:ext cx="3457440" cy="4471920"/>
            <a:chOff x="5002200" y="1262160"/>
            <a:chExt cx="3457440" cy="4471920"/>
          </a:xfrm>
        </p:grpSpPr>
        <p:sp>
          <p:nvSpPr>
            <p:cNvPr id="68" name=""/>
            <p:cNvSpPr/>
            <p:nvPr/>
          </p:nvSpPr>
          <p:spPr>
            <a:xfrm>
              <a:off x="5002200" y="17002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02200" y="47260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2200" y="37180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02200" y="27082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75280" y="1917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, Regulation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wnership and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5280" y="299736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75280" y="3933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and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5280" y="507852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 Re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3640" y="12621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rtically Integrated 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 for Vertical Integ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licy aimed at protecting a revenue base, to be used to extend power to communities without service and pay for new generation, B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tical integration also meant a lack of competition and led to a loss of focus on customer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ash flows from utilities make them prime targets for political intervention (e.g. overstaffing) and rent seek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REFORMS mean restructuring the incentiv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Meant by Restructur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en restructuring to facilitate private sector involvement, three processes are at work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ctoral Restructur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- to clarify roles of institutions responsible for policy, ownership, business management and regulation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Vertical unbundling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– to focus on the efficiency of generation, transmission, distribution and retail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regula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– to allow private sector participation in the most competitive aspects of the power sector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16856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32480" y="279360"/>
            <a:ext cx="565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oral Restruct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1625760"/>
            <a:ext cx="7925040" cy="4539960"/>
            <a:chOff x="609480" y="1625760"/>
            <a:chExt cx="7925040" cy="4539960"/>
          </a:xfrm>
        </p:grpSpPr>
        <p:sp>
          <p:nvSpPr>
            <p:cNvPr id="84" name=""/>
            <p:cNvSpPr/>
            <p:nvPr/>
          </p:nvSpPr>
          <p:spPr>
            <a:xfrm>
              <a:off x="3851280" y="3139920"/>
              <a:ext cx="3457440" cy="1008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1952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700280"/>
              <a:ext cx="1524240" cy="1068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2143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215892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8320" y="193032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2158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g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625760"/>
              <a:ext cx="7925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51280" y="515772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1280" y="414972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342900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4360" y="4365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and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4360" y="551016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 Re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80000" y="2781360"/>
              <a:ext cx="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372000" y="2386080"/>
              <a:ext cx="3603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6000" y="2386080"/>
              <a:ext cx="3603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0000" y="2781360"/>
              <a:ext cx="0" cy="3311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1280" y="1628640"/>
              <a:ext cx="5616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ructuring 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ultiple objectives, multiple excuses.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, policy, ownership, business management and regulation are inside a single ministry, civil servants effectively make all the decision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single recommendation goes to ministers often without the implications of the trade-offs spelt out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stakes can be hidden e.g. relax environmental controls in order to improve business return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ectoral Restructuring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ces the different functions in the hands of separate agenc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sier to measure performanc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ltiple streams of information -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49160" y="692280"/>
            <a:ext cx="8001000" cy="1828800"/>
            <a:chOff x="749160" y="692280"/>
            <a:chExt cx="8001000" cy="1828800"/>
          </a:xfrm>
        </p:grpSpPr>
        <p:sp>
          <p:nvSpPr>
            <p:cNvPr id="107" name=""/>
            <p:cNvSpPr/>
            <p:nvPr/>
          </p:nvSpPr>
          <p:spPr>
            <a:xfrm>
              <a:off x="501624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516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3720" y="1454400"/>
              <a:ext cx="152424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2136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160" y="692280"/>
              <a:ext cx="579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0040" y="166716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7320" y="168300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3960" y="145440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5160" y="16830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g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5120" y="1149480"/>
              <a:ext cx="7925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49160" y="2597040"/>
            <a:ext cx="6248160" cy="3657600"/>
            <a:chOff x="749160" y="2597040"/>
            <a:chExt cx="6248160" cy="3657600"/>
          </a:xfrm>
        </p:grpSpPr>
        <p:sp>
          <p:nvSpPr>
            <p:cNvPr id="118" name=""/>
            <p:cNvSpPr/>
            <p:nvPr/>
          </p:nvSpPr>
          <p:spPr>
            <a:xfrm>
              <a:off x="5016240" y="2825640"/>
              <a:ext cx="1523880" cy="83808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2560" y="305424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16240" y="5263920"/>
              <a:ext cx="1523880" cy="83844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87640" y="54925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44840" y="4044960"/>
              <a:ext cx="990720" cy="8380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39920" y="4273560"/>
              <a:ext cx="16765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Transmiss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istrib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160" y="2597040"/>
              <a:ext cx="57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bundling Separat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7640" y="2597040"/>
              <a:ext cx="22096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49360" y="3089160"/>
            <a:ext cx="2210040" cy="838080"/>
            <a:chOff x="2349360" y="3089160"/>
            <a:chExt cx="2210040" cy="838080"/>
          </a:xfrm>
        </p:grpSpPr>
        <p:sp>
          <p:nvSpPr>
            <p:cNvPr id="127" name=""/>
            <p:cNvSpPr/>
            <p:nvPr/>
          </p:nvSpPr>
          <p:spPr>
            <a:xfrm>
              <a:off x="2349360" y="308916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25680" y="3317760"/>
              <a:ext cx="18288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eti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49360" y="5340240"/>
            <a:ext cx="2210040" cy="838080"/>
            <a:chOff x="2349360" y="5340240"/>
            <a:chExt cx="2210040" cy="838080"/>
          </a:xfrm>
        </p:grpSpPr>
        <p:sp>
          <p:nvSpPr>
            <p:cNvPr id="130" name=""/>
            <p:cNvSpPr/>
            <p:nvPr/>
          </p:nvSpPr>
          <p:spPr>
            <a:xfrm>
              <a:off x="2349360" y="534024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5680" y="5568840"/>
              <a:ext cx="18288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eti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349360" y="4232160"/>
            <a:ext cx="2210040" cy="838080"/>
            <a:chOff x="2349360" y="4232160"/>
            <a:chExt cx="2210040" cy="838080"/>
          </a:xfrm>
        </p:grpSpPr>
        <p:sp>
          <p:nvSpPr>
            <p:cNvPr id="133" name=""/>
            <p:cNvSpPr/>
            <p:nvPr/>
          </p:nvSpPr>
          <p:spPr>
            <a:xfrm>
              <a:off x="2349360" y="423216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25680" y="4460760"/>
              <a:ext cx="182880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nopo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044440" y="404640"/>
            <a:ext cx="49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tical Unbu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bundling for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ertical unbundl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kes performance of generation, lines and energy sales transparent too - (“chopping into competitive and less competitive bits to see what is going on”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nbundl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ourages EFFICIENCY in each segment, putting ongoing downward pressure on costs (“squeeze the bits to make them more efficient and keep real costs down”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stomers benefit as the sector works harder (“the [rugby] goal is raised, the sector learns to kick bet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d transmission, allows open access / pri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tructuring and Unbundling are necessary conditions for UNSUBSIDISED private investment, (note that private investors will invest in anything if the subsidy is big enough)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ther necessary conditions are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ule of law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edom to change money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uarantees there will be no seizure of private assets by government official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moving foreign investment impediments is also very important – “make it easy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ined economi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er Workers’ Union Offici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ember of New Zealand Parliament for 12 years (1978-1990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ster of Energy (1987-90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irman of the Cabinet Committee on Restructuring Electric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ultant 1990 - 200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egulation / Liberalis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Liberalisation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moval of unnecessary legal barriers to investment (e.g. legal enforced vertical integration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eregulation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o narrow the scope of regulatory intervention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neral issues such as health, safety, and environment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or specific issues such as access to resourc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oral issues such as price control on transmission and distribu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sible Sequence of Liberalis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tor Restructuring, to clarify the focus on policy, regulation, ownership and managemen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ove legal protection for all ancillary activities (eg cleaning, transport, maintenance)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ertical unbundling, in particular the removal of transmission from the former utility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ercially driven break up of generation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ment of wholesale marke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ercial grouping of retail into viable unit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 cost effective retail market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Fallacies about Restruct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Prices will double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prices in NZ power -11%, coal -40%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If it ain’t broke, don’t fix it”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s good cash flow good performance, or a monopo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This sector is different to the others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ssues are the same: improving incentives, transpar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Costs are high and the benefits far away,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f the pain is postponed so are the benef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 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This sector is strategic!”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food is strategic in N Korea – distributing donor r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Why is private investment good?</a:t>
            </a: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stops the government using money that should be used for schools and hospitals, to build edifice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f government subsidises power, it biases investment into power intensive, job lean sector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t opens the market to more environmentally friendly options for generation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f private investors do a bad job, they go bankrup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other owners can buy and operate the assets, and it will not cost the government or community anything, the investors and the bankers bear the cos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Government’s key role is to determine the road map, answer the question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overnment does best when it states where it wants to end up and asks the sector and investors for advice on how to get ther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is always the threat of compulsion, but if getting investment is the goal, use it sparingly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frica is in a competitive market for capital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ttract the money it needs, Africa has to be an attractive place to invest – make it easy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Gover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560" y="148608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Overall objective of government policy should be to maximise economic activity, create employment and reduce pover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Its energy role is to determine sector policy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RIME* Report, identified key policy issu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the institutional framework within which energy markets will operat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dentifying and correcting for perceived market failur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providing for non-market objectiv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managing resources that are owned by the nation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Sector policy must fit within overall government polic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</a:rPr>
              <a:t>*GRIME = Government Role in Minerals and Ener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itutional Frame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Arial"/>
              </a:rPr>
              <a:t>Institutions in the energy market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stitutions of the sector be public or privately ow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re be government agencies, departments or compan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re be markets and competition or will there be a legislated monopol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hich organisations will be responsible for policy / regulation et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ket Failu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Objective ways to identify and correc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public goods such as health or safety inspection be provide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s there information sufficient for a competitive market to 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s it a natural monopoly industry that needs regula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are entry costs too high to encourage new competito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do external costs, like pollution, need to be charged to the industr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overnment failure/cost needs to be weigh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Market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Arial"/>
              </a:rPr>
              <a:t>Cost effective provis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dustry be required to contribute to regional developmen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dustry be allowed / required to cross subsidis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price controls on energy be an inflation control tool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above undermine the industry's capital base, or will the budget compensate for policy cos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Primary Energy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etting Value for nation’s resourc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o will "own" resources such as rivers, geothermal deposits and lak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at priority should be accorded to the claims of indigenous group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o will "own" mineral resources under the groun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resources be allocated to competing us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the best value use for resources be achieved (and what role with government or markets play in determining value)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Sector Poli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Efficient investment in power is the goal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nvestment is large, lumpy and absorbs a large share of available capital – can’t use elsewhere once employed in power stations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Mistakes tend to be big mistakes.</a:t>
            </a: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echnical mistakes create the risk of breakdowns and interruptions of service,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nadequate investment can create the risk of low voltage and supply restrictions, meaning lost production and exports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oo much investment creates risk of large costs (passed on to consumers) - no revenue stream from the unused capacity to pay for construction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ifice Compl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Edifice danger: “all construction is good”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Arial"/>
              </a:rPr>
              <a:t>but we cannot eat power, wear it, live in it or enjoy it, its an intermediate good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The benefit of electricity is maximised if the REAL COST is kept low (helps to create jobs, incomes and end poverty) ,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Over investment, (driven by an edifice complex) may lead to sales, below cost, to big us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hat may create a few expensive jobs (US$.5 million per job v. US$ 5k), but destroys mor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f bad decisions result in over or under investment the capacity of the country to create jobs and tackle poverty among its citizens is reduc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6:57:15Z</dcterms:created>
  <dc:creator>David Butcher</dc:creator>
  <dc:description/>
  <dc:language>en-US</dc:language>
  <cp:lastModifiedBy>David</cp:lastModifiedBy>
  <dcterms:modified xsi:type="dcterms:W3CDTF">2007-01-20T21:47:38Z</dcterms:modified>
  <cp:revision>13</cp:revision>
  <dc:subject/>
  <dc:title>Role of Government in Fostering Reforms and Private Sector Participation by  Hon David Butcher</dc:title>
</cp:coreProperties>
</file>