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3727-746B-4260-AFAB-CC3692970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ED27-36E1-49F7-A9A1-CB7471074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8F46-E498-42EE-914B-83A203224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D5DF-8712-4CEA-8DB3-76A7E3C31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0898-B1FD-4103-A6B2-1588B3614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0E9C-6F56-4278-9BD8-9D9EBA307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54DD-8B30-4B50-BA58-785E08F1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6C1D-8E6B-41ED-A844-560C1F75D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CAD1-9F98-4DB6-9137-B2DC26F61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E61F-F5BC-4337-A88B-7210D5E9F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4628-33C0-4FAA-8D8D-6A0E1FED5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4159-9777-467E-A3DF-AD0E5D4EB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A2F-D5D0-48ED-8238-23DB6BCB19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16572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23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333399"/>
                </a:solidFill>
                <a:latin typeface="Arial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30864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Guinness Galla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Seminar on Reform for Agriculture-related Tax Syst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chang P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ptemb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Agriculture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58-19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in kind (physical quantities)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otal agriculture tax fell, tax as percent of revenue fell, average rate of tax fell, tax burden fell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79-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payments monetised, otherwise similar, but collections quadrupl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-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lation of various fees and charges, collections doubled but burden on farmers halv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 tax in five years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plications from China’s Experi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 collections will increase 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xes are monetised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here is a single tax, urban and rural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dministration is simple as possible and clearly understandable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ax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urrently enterprise and income taxes will not apply to most rural families as incomes fall below tax threshol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xpenses incurred in earning income should be deductible from tax due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may be a need to look at the tax treatment of capital assets, such as livestock (e.g. treat the breeding herd the same way as plant and machinery)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n this way it becomes a capital asset and not tax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Overall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65280"/>
            <a:ext cx="757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get Revenue as % GDP has nearly doub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3040200"/>
          <a:ext cx="7129440" cy="82044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792000"/>
                <a:gridCol w="720720"/>
                <a:gridCol w="792360"/>
                <a:gridCol w="790560"/>
                <a:gridCol w="792000"/>
                <a:gridCol w="792360"/>
                <a:gridCol w="6490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7360"/>
            <a:ext cx="76388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rgely Due to the Success of 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troduced in 1994 as part of the tax refo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he biggest single contributor to the national treasu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llected by agriculture sector but paid for by final consum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ational Experience with 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rate + no 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ves the fairest result and simplifies collection and understand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T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reates a data base for other forms of tax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nly applies to large commercial produc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ccess in Increa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 Taxing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paration of Land and C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wnership rights over crops are particularly important for tree crops and forestry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 property rights for farmers and encourage investment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nsistent approach for town and country to improve fairness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s the tax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vestment then market driven not tax driven, production can be sold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fficiency, Equity and Administrative 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fairness between taxpayers,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annot wait for the system to be optimal, must make it fair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ar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where charges are levied on farmers, the services should be contest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dustry levies for marketing, research funds etc.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10:24Z</dcterms:created>
  <dc:creator>john</dc:creator>
  <dc:description/>
  <dc:language>en-US</dc:language>
  <cp:lastModifiedBy>David</cp:lastModifiedBy>
  <dcterms:modified xsi:type="dcterms:W3CDTF">2006-10-09T05:08:52Z</dcterms:modified>
  <cp:revision>81</cp:revision>
  <dc:subject/>
  <dc:title>Telecom privatisation</dc:title>
</cp:coreProperties>
</file>