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7BC5-7719-4DEB-A9E0-58D1FA710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75F4-690E-4982-B57D-1AB344778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A29F-81D7-46AE-9DC6-73CBF4D5B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F001-7946-4087-ACCE-B8F795B63E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5E0E-C895-4713-BFBA-CB784F9FD6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01EB-BB97-4187-9502-0B7FAD578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2753-56B3-4A6F-B28E-87B3A5770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C122-C726-41C7-8A54-B4591F90C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9FFC-58D3-4AF6-B126-3BF43397A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FF1D-26E1-46FB-A1E7-8F11BB5E2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189DB-E715-44D8-9446-9209ED1C7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4293-11D1-42B4-BC17-72D64DB93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3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0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1233-E6CC-4337-9644-63B8ABAE34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16572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623736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333399"/>
                </a:solidFill>
                <a:latin typeface="Arial"/>
              </a:rPr>
              <a:t>David Butcher and Associ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67280" y="630864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Guinness Gallag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ational Seminar on Reform for Agriculture-related Tax Syste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nchang P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ahoma"/>
              </a:rPr>
              <a:t>Septembe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ina’s Experience with Agriculture Tax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958-197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ax in kind (physical quantities)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otal agriculture tax fell, tax as percent of revenue fell, average rate of tax fell, tax burden fell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979-198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ax payments monetised, otherwise similar, but collections quadrupled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0-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ancellation of various fees and charges, collections doubled but burden on farmers halved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ancel tax in five years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mplications from China’s Experi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enue collections will increase i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xes are monetised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here is a single tax, urban and rural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administration is simple as possible and clearly understandable.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Tax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currently enterprise and income taxes will not apply to most rural families as incomes fall below tax threshold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expenses incurred in earning income should be deductible from tax due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may be a need to look at the tax treatment of capital assets, such as livestock (e.g. treat the breeding herd the same way as plant and machinery)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in this way it becomes a capital asset and not taxable. 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ina’s Experience with Overall Tax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465280"/>
            <a:ext cx="757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dget Revenue as % GDP has nearly doubl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00000" y="3040200"/>
          <a:ext cx="7129440" cy="820440"/>
        </p:xfrm>
        <a:graphic>
          <a:graphicData uri="http://schemas.openxmlformats.org/drawingml/2006/table">
            <a:tbl>
              <a:tblPr/>
              <a:tblGrid>
                <a:gridCol w="1008000"/>
                <a:gridCol w="792360"/>
                <a:gridCol w="792000"/>
                <a:gridCol w="720720"/>
                <a:gridCol w="792360"/>
                <a:gridCol w="790560"/>
                <a:gridCol w="792000"/>
                <a:gridCol w="792360"/>
                <a:gridCol w="6490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ven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57360"/>
            <a:ext cx="76388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argely Due to the Success of V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ntroduced in 1994 as part of the tax refor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the biggest single contributor to the national treasur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ollected by agriculture sector but paid for by final consum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ernational Experience with 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gle rate + no exe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gives the fairest result and simplifies collection and understand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AT Dat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reates a data base for other forms of taxa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only applies to large commercial produc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uccess in Increasing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ther Taxing Iss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paration of Land and Cr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ownership rights over crops are particularly important for tree crops and forestry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mprove property rights for farmers and encourage investment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onsistent approach for town and country to improve fairness,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mproves the tax neutrality between investments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nvestment then market driven not tax driven, production can be sold.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fficiency, Equity and Administrative 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fairness between taxpayers, neutrality between investments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cannot wait for the system to be optimal, must make it fair,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harg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where charges are levied on farmers, the services should be contestable. 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industry levies for marketing, research funds etc. </a:t>
            </a:r>
            <a:endParaRPr b="1" lang="en-US" sz="1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2:10:24Z</dcterms:created>
  <dc:creator>john</dc:creator>
  <dc:description/>
  <dc:language>en-US</dc:language>
  <cp:lastModifiedBy>David</cp:lastModifiedBy>
  <dcterms:modified xsi:type="dcterms:W3CDTF">2006-10-09T05:08:52Z</dcterms:modified>
  <cp:revision>81</cp:revision>
  <dc:subject/>
  <dc:title>Telecom privatisation</dc:title>
</cp:coreProperties>
</file>