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06736-F453-4DC2-934C-149B9E02B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B7ECA-1329-4C8E-8492-D3B8A7B4A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46BF0-B81F-433C-97EA-43DB38DAB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DAD6C-9920-47F9-9D8A-54E5D089C3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D4B62-851A-4FD2-A84F-88BE7710A8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E9150-84B9-4A87-8347-A627B8CCD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5EC70-8619-40D0-98B7-15A16FB9C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BB0A-A85B-4C52-9855-7B71C11C4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34C2-73B7-4221-A859-6A37A87AD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28BBC-BE4D-4C51-AA4E-3EF2A26F6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36569-AFC5-4759-B506-36EF15169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12D96-D51C-4DA1-A8AC-9989A65E9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33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0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4622-52BE-4B6B-B70A-0AE406B541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360" y="616572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8360" y="623736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333399"/>
                </a:solidFill>
                <a:latin typeface="Arial"/>
              </a:rPr>
              <a:t>David Butcher and Associ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867280" y="630864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Guinness Gallag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3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ational Seminar on Reform for Agriculture-related Tax Syste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nchang P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Septembe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0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ina’s Experience with Agriculture Tax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958-197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tax in kind (physical quantities)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total agriculture tax fell, tax as percent of revenue fell, average rate of tax fell, tax burden fell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979-198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tax payments monetised, otherwise similar, but collections quadrupled,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00-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cancellation of various fees and charges, collections doubled but burden on farmers halved,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cancel tax in five years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mplications from China’s Experi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enue collections will increase if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xes are monetised,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here is a single tax, urban and rural,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administration is simple as possible and clearly understandable.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Tax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currently enterprise and income taxes will not apply to most rural families as incomes fall below tax threshold,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expenses incurred in earning income should be deductible from tax due,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may be a need to look at the tax treatment of capital assets, such as livestock (e.g. treat the breeding herd the same way as plant and machinery)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in this way it becomes a capital asset and not taxable. 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ina’s Experience with Overall Tax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465280"/>
            <a:ext cx="757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dget Revenue as % GDP has nearly doubl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00000" y="3040200"/>
          <a:ext cx="7129440" cy="820440"/>
        </p:xfrm>
        <a:graphic>
          <a:graphicData uri="http://schemas.openxmlformats.org/drawingml/2006/table">
            <a:tbl>
              <a:tblPr/>
              <a:tblGrid>
                <a:gridCol w="1008000"/>
                <a:gridCol w="792360"/>
                <a:gridCol w="792000"/>
                <a:gridCol w="720720"/>
                <a:gridCol w="792360"/>
                <a:gridCol w="790560"/>
                <a:gridCol w="792000"/>
                <a:gridCol w="792360"/>
                <a:gridCol w="6490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en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557360"/>
            <a:ext cx="76388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argely Due to the Success of V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introduced in 1994 as part of the tax refor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the biggest single contributor to the national treasur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collected by agriculture sector but paid for by final consume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ernational Experience with V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ngle rate + no exe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gives the fairest result and simplifies collection and understand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AT Data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creates a data base for other forms of taxatio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only applies to large commercial produc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uccess in Increasing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ther Taxing Issu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paration of Land and Cr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ownership rights over crops are particularly important for tree crops and forestry,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improve property rights for farmers and encourage investment,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sis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consistent approach for town and country to improve fairness,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improves the tax neutrality between investments,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investment then market driven not tax driven, production can be sold.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fficiency, Equity and Administrative 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fairness between taxpayers, neutrality between investments,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cannot wait for the system to be optimal, must make it fair,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harg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where charges are levied on farmers, the services should be contestable. 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industry levies for marketing, research funds etc.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2:10:24Z</dcterms:created>
  <dc:creator>john</dc:creator>
  <dc:description/>
  <dc:language>en-US</dc:language>
  <cp:lastModifiedBy>David</cp:lastModifiedBy>
  <dcterms:modified xsi:type="dcterms:W3CDTF">2006-10-09T05:08:52Z</dcterms:modified>
  <cp:revision>81</cp:revision>
  <dc:subject/>
  <dc:title>Telecom privatisation</dc:title>
</cp:coreProperties>
</file>